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0A9-4F99-4960-819E-2C4121CF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12D-C794-4B70-9218-9B4C8E9D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572-9786-45AC-A551-B28E22B6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729-9424-42D4-9D1A-8E19C433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D93-E91E-4BE7-A396-7D74EFDC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4B0-7A83-4987-A943-6C795405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DE7-0F41-474D-95A8-E6E1A6D9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E5B-36B0-4D31-869D-6AB3E7CF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193-0315-474F-AEC8-965944B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B2F-6C92-4C4D-B955-255A18D8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630-32F4-4B1E-8B21-6AF8E28B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E58-B401-4536-A88C-6EEB18C0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DC74-7A39-4EB0-9707-29CAC5807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67520" y="349200"/>
            <a:ext cx="457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ّا بْكَرِّسْلَكْ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َّ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وهبتي وكل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صير شهادة ع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كرسلك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لحظة من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غنيها قوة ح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0200" y="349200"/>
            <a:ext cx="540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رتّلك يوميِّ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َشِّر فيك اللي حْوالَي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اللي بيتغيَّر في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بيولد فرح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الوزنة البين إيديّ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كبر وبقدّملك هي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عمة العندي بتز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67520" y="349200"/>
            <a:ext cx="457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ّا بْكَرِّسْلَكْ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َّ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وهبتي وكل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صير شهادة ع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كرسلك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لحظة من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غنيها قوة ح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5800" y="349200"/>
            <a:ext cx="5181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قدّملَك كل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بتركلَك مطرح ب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اللي بيتغيّر في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بيولد فرح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صلّي كل دقيق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بِرفَع صَوتي للحقيق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عمة العندي بتز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ما بكرسلك ذاتي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3-02-08T06:50:25Z</dcterms:modified>
  <cp:revision>12</cp:revision>
  <dc:subject/>
  <dc:title>PowerPoint Presentation</dc:title>
</cp:coreProperties>
</file>